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499-89B7-432D-AA77-5D869ACF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E76-2840-40BB-AF46-7631F7A5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BCD-9E74-4688-A64D-1953D709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B39F-CB54-4FB3-A40A-382B3081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C5D3-DF70-4F4E-816E-5023B750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F269-DFB6-48EF-B5A2-F5B2F8B9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E332-7665-469D-B498-DCD5F479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C597-6621-4FCE-89B0-D4AFF2E8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4841-C811-4765-B34E-C875BB05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FD94-669E-41C0-9024-4150B8D2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5AD6-D3D3-462C-89B7-EFFCA71B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E81-7A82-4854-AD18-05EB095B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6FD5-A3AF-4D26-A498-FD95F4A1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735B-66A7-4DDA-AD8E-A668B7CE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0F49-5865-40D8-8919-D921EF3C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3833-375D-423E-84FB-A2B11E5A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D418-AE8F-442F-A9D7-D4F16345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F2BE-7F61-49B3-B9F3-2F447F18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8FD-925B-4B67-9909-27FFD2B7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2B6-9DE1-4B53-9534-404BFC04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A24B-52FB-48F3-A354-81ADA205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B8C-B120-4B56-A193-53EEBC86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901-0649-4450-A4C0-DB739218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E5C-1835-4E38-A35E-814F717A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88BB-A19D-4301-9075-998ED6269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9B05-FBBC-40F9-9F15-AF09B6E43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rdowling.com/(&#1089;&#1080;&#1084;&#1074;&#1086;&#1083;&#1099;" TargetMode="External"/><Relationship Id="rId3" Type="http://schemas.openxmlformats.org/officeDocument/2006/relationships/hyperlink" Target="http://www.mrdowling.com/(&#1089;&#1080;&#1084;&#1074;&#1086;&#1083;&#1099;" TargetMode="External"/><Relationship Id="rId4" Type="http://schemas.openxmlformats.org/officeDocument/2006/relationships/hyperlink" Target="http://www.mrdowling.com/(&#1089;&#1080;&#1084;&#1074;&#1086;&#1083;&#1099;" TargetMode="External"/><Relationship Id="rId5" Type="http://schemas.openxmlformats.org/officeDocument/2006/relationships/hyperlink" Target="http://reficula.do.am/publ/7-1-0-13" TargetMode="External"/><Relationship Id="rId6" Type="http://schemas.openxmlformats.org/officeDocument/2006/relationships/hyperlink" Target="http://nataliabaranova.livejournal.com/164772.html" TargetMode="External"/><Relationship Id="rId7" Type="http://schemas.openxmlformats.org/officeDocument/2006/relationships/hyperlink" Target="http://blezzy-bounce.narod.ru/rasta/paskha.html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ec2c"/>
                </a:solidFill>
                <a:latin typeface="Arial"/>
              </a:rPr>
              <a:t>Исторические условия возникновения иудаизма</a:t>
            </a:r>
            <a:r>
              <a:rPr b="0" lang="en-US" sz="4000" spc="-1" strike="noStrike">
                <a:solidFill>
                  <a:srgbClr val="55ec2c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300360" y="4941360"/>
            <a:ext cx="2592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ec2c"/>
                </a:solidFill>
                <a:latin typeface="Arial"/>
              </a:rPr>
              <a:t>Учитель истории Максимович Л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ec2c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ec2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55ec2c"/>
                </a:solidFill>
                <a:latin typeface="Arial"/>
              </a:rPr>
              <a:t>г.Б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ec2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55ec2c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93040" y="189000"/>
            <a:ext cx="65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ec2c"/>
                </a:solidFill>
                <a:latin typeface="Arial"/>
              </a:rPr>
              <a:t>Муниципальное образовательное учреждение СОШ №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10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ec2c"/>
                </a:solidFill>
                <a:latin typeface="Arial"/>
              </a:rPr>
              <a:t>Иудаизм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50920" y="1052640"/>
            <a:ext cx="4875480" cy="2809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4437000"/>
            <a:ext cx="8540640" cy="22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лигия еврейского нар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его почве впоследствии выросло христиан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рмин «иудаизм» происходит от названия еврейского племенного объединения – иу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ходцы из племени иуды основали царскую династию в древнем Израильско-Иудейском царст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огда эту религию называют религией Моисе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3860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оисей получает скрижали с заповед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ec2c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гда и где зародился иудаизм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следить историю становления и развития иудаиз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27640" y="1700280"/>
            <a:ext cx="43876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ec2c"/>
                </a:solidFill>
                <a:latin typeface="Arial"/>
              </a:rPr>
              <a:t>Территория расселения еврейских племен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7705800" cy="5040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700360" y="3284640"/>
            <a:ext cx="1150920" cy="792000"/>
          </a:xfrm>
          <a:prstGeom prst="ellipse">
            <a:avLst/>
          </a:prstGeom>
          <a:solidFill>
            <a:srgbClr val="ff0000">
              <a:alpha val="24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616572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6021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. до н.э.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селение к берегам Р.Иордан, создание Израильско-иудейского государства, политеиз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5300280"/>
            <a:ext cx="804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ec2c"/>
                </a:solidFill>
                <a:latin typeface="Arial"/>
              </a:rPr>
              <a:t>X </a:t>
            </a:r>
            <a:r>
              <a:rPr b="1" lang="ru-RU" sz="2000" spc="-1" strike="noStrike">
                <a:solidFill>
                  <a:srgbClr val="55ec2c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55ec2c"/>
                </a:solidFill>
                <a:latin typeface="Arial"/>
              </a:rPr>
              <a:t> VII</a:t>
            </a:r>
            <a:r>
              <a:rPr b="1" lang="ru-RU" sz="2000" spc="-1" strike="noStrike">
                <a:solidFill>
                  <a:srgbClr val="55ec2c"/>
                </a:solidFill>
                <a:latin typeface="Arial"/>
              </a:rPr>
              <a:t> вв.до н.э. </a:t>
            </a:r>
            <a:r>
              <a:rPr b="0" lang="ru-RU" sz="2000" spc="-1" strike="noStrike">
                <a:solidFill>
                  <a:srgbClr val="55ec2c"/>
                </a:solidFill>
                <a:latin typeface="Arial"/>
              </a:rPr>
              <a:t>(выделяется культа бога Яхве среди других богов, со временем другие боги запрещены)</a:t>
            </a:r>
            <a:r>
              <a:rPr b="1" lang="ru-RU" sz="2000" spc="-1" strike="noStrike">
                <a:solidFill>
                  <a:srgbClr val="55ec2c"/>
                </a:solidFill>
                <a:latin typeface="Arial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4270320" cy="3219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9640" y="177336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26028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ec2c"/>
                </a:solidFill>
                <a:latin typeface="Arial"/>
              </a:rPr>
              <a:t>Иерусалимский храм (</a:t>
            </a:r>
            <a:r>
              <a:rPr b="1" lang="en-US" sz="4000" spc="-1" strike="noStrike">
                <a:solidFill>
                  <a:srgbClr val="55ec2c"/>
                </a:solidFill>
                <a:latin typeface="Arial"/>
              </a:rPr>
              <a:t>945г.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"/>
              </a:rPr>
              <a:t>Стена Плач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4863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вилонское царств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нач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до н.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с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коне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до н.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имская импер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до н.э.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н.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39607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Arial"/>
              </a:rPr>
              <a:t>Современный Израил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2491920"/>
            <a:ext cx="41940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в.н.э. евреи расселяются по всему ми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48г.-восстановление государства Израи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35290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ec2c"/>
                </a:solidFill>
                <a:latin typeface="Arial"/>
              </a:rPr>
              <a:t>Основные вывод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удаизм национально-государственная религия еврейского на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рмин иудаизм происходит от названия древнего еврейского племени «иуд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ругое название религии- «религия Моисе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а из древнейших религий, сохранившихся до наших д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ле потери евреями государственности, иудаизм стал идейной основой борьбы евреев за восстановление государ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ec2c"/>
                </a:solidFill>
                <a:latin typeface="Arial"/>
              </a:rPr>
              <a:t>Использованные источни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www.mrdowling.com</a:t>
            </a: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символы иудаизма)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reficula.do.a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(Иерусалимский хра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nataliabaranova.livejournal.co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скрижали с заповедя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blezzy-bounce.narod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Моисей получает от Бога скрижали с заповедя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7:12:23Z</dcterms:created>
  <dc:creator>Сергей</dc:creator>
  <dc:description/>
  <dc:language>en-US</dc:language>
  <cp:lastModifiedBy>папа</cp:lastModifiedBy>
  <dcterms:modified xsi:type="dcterms:W3CDTF">2011-03-16T12:51:15Z</dcterms:modified>
  <cp:revision>25</cp:revision>
  <dc:subject/>
  <dc:title>Всемирный потоп Древо познаний Запретный плод сладок Земля обетованная </dc:title>
</cp:coreProperties>
</file>